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AEBF-B41F-4FCF-BA35-6091CCD3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6479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16C6-2C5C-4CD2-9576-94088E0B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6479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6479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4D1B-694E-4E24-98E4-BC54B787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6479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6479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6479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4245-AB9C-4843-8EB8-0B97F825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7236-37AB-4BE7-8BF3-BC8469CD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FD6D-8808-4479-872D-83312D42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0CFD-C081-458A-B383-86D0F5BC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9EB9-D862-46E5-9A2C-AEA42DD8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1024-175F-47D3-B246-377E5E15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143F-4D06-4C2A-98D0-A3751FE1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6479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16DC-071E-406F-8090-83FB0A30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AAC3-19C5-4566-9DF4-C233A5BC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6479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3DBD-A951-4E05-8B51-7FF926D7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6479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9CF8-2CBF-4D9E-B5F4-4C0C8DB5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6479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3D24-BCCC-4713-B9D0-E3A18B2F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6479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6479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A58C-BC29-4185-955E-70CB071A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6479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6479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6479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3D4D-5595-4D45-BA68-54496F9A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B48F-3253-4767-98F0-3FEA4230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3083-AAC9-4799-BD5A-0E99105B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BB85-53C4-4135-A7D3-7DF87647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6D7B-27CA-4FB0-8728-36CED421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6479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3ED3-76E1-40EA-B973-B31DD06F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6479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E194-A7D8-40EE-BB71-0545C1AF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6479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554F-65CF-4CE3-A94E-10D557D2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1" name="Rectangle 3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239760" y="222120"/>
              <a:ext cx="8682120" cy="64389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6699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D0ED-D75B-4E4C-9C08-064566C382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47" name="Rectangle 3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4"/>
            <p:cNvSpPr/>
            <p:nvPr/>
          </p:nvSpPr>
          <p:spPr>
            <a:xfrm>
              <a:off x="239760" y="222120"/>
              <a:ext cx="8682120" cy="64389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6699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710A-FCDE-448C-9A68-8F98B38C09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apter 17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WEST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XPLOITING AN EMPI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ivine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Breen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Fredrickson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Williams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Gross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Br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61722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inal Battles on the Plai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reservation policy fa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ng warriors refuse restra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 settlers encroach on Indian 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series of wars suppress Ind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76, Little Big Horn:  Sioux defeat C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battles result in Indian defeat, massac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90, Wounded Knee: Massacre to suppress "Ghost Dances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End of Tribal Lif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87: Dawes Severalty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troys communal ownership of Indian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s small farms (160 acres) to each head of a fam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ans who leave tribes become U.S. citiz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live on land for 25 straight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-extermination of buffalo deals devastating blow to Plains Ind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ttlement of the We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precedented settlement 1870–19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move west in periods of prospe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ing population drives demand for Western g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en and Women on the Overland Trai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ifornia Gold Rush begins Great Mi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lers start from St. Louis, Missouri, in April to get through Rockies before sno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ific trek takes at least 6 month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d for the Taking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ederal Incentiv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60–1900: Federal land gra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 million acres granted under Homestead 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million acres sold to private individuals, corpo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8 million acres granted to railroad compan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ress offers incentives to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ber Culture Act of 187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ert Land Act of 18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ber and Stone Act of 187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d for the Taking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peculators and Railroa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18772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land acquired by wealthy inves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ulators send agents to stake out best land for high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ver bot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rigable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of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roads settle grants with immigr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d for the Taking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ater and Develop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scarcity limits Western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ch of the West receives less than 20 inches of rainfall annu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speculate in water as in go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02: Newlands Act sets aside federal money for irrigation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rritorial Govern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ern territorial officials appoi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itorial patronage systems persi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Westerners make livings as Congress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itorial experience produces unique Western political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Spanish-Speaking Southwe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nish-speakers of Southwest  contribute to culture, instit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r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ck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ural resourc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nish-Mexican Californians lose lands after 186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Bonanza We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 to “get rich quick” produ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ven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m-and-bust economic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ted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nt cities" like San Francis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itutions based on bonanza ment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yond the Fronti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40: Settlement to Missouri timber count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tern Plains have rich soil, good rain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Plains, Rockies semi-ar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pre-Civil War settlers head directly for Pacific Co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Mining Bonanz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ng first attraction to the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ng frontier moves from west to ea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 prospectors remove surface go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 corporations move in with the heavy, expensive mining equip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74–1876: Black Hills rush overruns Sioux hunting gr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ining Regions of the We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2" name="Picture 4" descr="DIVI7233355"/>
          <p:cNvPicPr/>
          <p:nvPr/>
        </p:nvPicPr>
        <p:blipFill>
          <a:blip r:embed="rId1"/>
          <a:stretch/>
        </p:blipFill>
        <p:spPr>
          <a:xfrm>
            <a:off x="2819520" y="1752480"/>
            <a:ext cx="3425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ining Bonanza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mp Lif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ps sprout with each first str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ps governed by simple democrac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 outnumber women two to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men, some women work clai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women earn wages as cooks, housekeepers, and seamstr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ining Bonanza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thnic Hostil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–50% of camp citizens were foreign-bo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nch, Latin Americans, Chinese h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50: California Foreign Miner's Tax drives foreigners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82: Federal Chinese Exclusion Act suspends Chinese immigration for 1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ining Bonanza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ffects of the Mining Boo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ed millions to ec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ed finance Civil War, industr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ve value of silver and gold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statehood for Nevada, Idaho, Monta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aded Indian reserv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rred, pollute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host tow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old from the Roots Up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Cattle Bonanz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18772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ar West ideal for cattle graz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tle drives take herds to rail h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s take herds to Chicago for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its enormous for large ranc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wboys work long hours for little p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wboys self-gove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ttle Trail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0" name="Picture 4" descr="DIVI7233357"/>
          <p:cNvPicPr/>
          <p:nvPr/>
        </p:nvPicPr>
        <p:blipFill>
          <a:blip r:embed="rId1"/>
          <a:stretch/>
        </p:blipFill>
        <p:spPr>
          <a:xfrm>
            <a:off x="2362320" y="1752480"/>
            <a:ext cx="4275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old from the Roots Up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Cattle Bonanz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1880 wheat farmers begin fencing r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zation modernizes ran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86: Harsh winter kills thousands of catt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chers reduce herds, switch to she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odbusters on the Plains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Farming Bonanz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257560"/>
            <a:ext cx="777240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70–1890 farm population triples on pl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American “Exoduster” farmers migrate from the South to escape rac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, building materials sca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d houses common first dwe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ew Farming Metho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bed wire allows fencing without w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y farming: Deeper tilling, use of mul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strains of wheat resistant to fr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85–1890: Drought ruins bonanza fa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-scale, diversified farming adop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ysiographic Map of the U.S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0" name="Picture 4" descr="DIVI7233344"/>
          <p:cNvPicPr/>
          <p:nvPr/>
        </p:nvPicPr>
        <p:blipFill>
          <a:blip r:embed="rId1"/>
          <a:stretch/>
        </p:blipFill>
        <p:spPr>
          <a:xfrm>
            <a:off x="990720" y="1752480"/>
            <a:ext cx="716256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content on the Far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mers’ griev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lining crop pr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ing rail 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y mortg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ange becomes a political lob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-Mississippi farmers become more commercial, scientific, produ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gricultural Land Use in the 1880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8" name="Picture 4" descr="DIVI7233367"/>
          <p:cNvPicPr/>
          <p:nvPr/>
        </p:nvPicPr>
        <p:blipFill>
          <a:blip r:embed="rId1"/>
          <a:stretch/>
        </p:blipFill>
        <p:spPr>
          <a:xfrm>
            <a:off x="1676520" y="1981080"/>
            <a:ext cx="5715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Final Fl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89: Oklahoma opened to white sett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ing views of Far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ntier thesis” treated West as cradle of individualism, inno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Western History sees West as arena of conflicting interests, erosion of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Meaning of the We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ians differ in their interpretation of the American frontier experie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derick Jackson Tur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Western historian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est was the first American empire and played a profound role in shaping American customs and character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rushing the Native America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67: 250,000 Indians in western 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laced Eastern Ind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ve Plains Ind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1880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Indians on reser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ifornia Indians decimated by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1890s Indian cultures crum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fe of the Plains Indians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litical Organiz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ins Indians nomadic, hunt buffa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ed horse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bes develop warrior cla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s limited to skirmishes, "counting coups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bal bands governed by chief and counci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se organization confounds federal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fe of the Plains Indians:  Social Organiz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xual division of lab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 hunt, trade, supervise ceremonial activities, clear ground for pla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men responsible for child rearing, art, camp work, gardening, food prepa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l gender status com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ship often matrilin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men often manage family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 Long as Waters Run”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arching for an Indian Polic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-Mississippi West neglec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an Intercourse Act of 1834 excludes any white from Indian country without a lic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 regarded as Indian pre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ative Americans in the West: Major Battles and Reserva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6" name="Picture 4" descr="DIVI7233346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s Long as Waters Run”: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Searching for an Indian Polic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1850 more whites in Indian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Chivington and the Sand Creek massac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oux War of 1865–1867 and Fetterman Massac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bate over Indian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itarians want to “civilize” Ind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s want firm control and swift repri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itarians win with "small reservation"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3:25:30Z</dcterms:created>
  <dc:creator>CMU</dc:creator>
  <dc:description/>
  <cp:keywords/>
  <dc:language>en-US</dc:language>
  <cp:lastModifiedBy>Matthew Myers</cp:lastModifiedBy>
  <cp:lastPrinted>2012-05-30T00:40:02Z</cp:lastPrinted>
  <dcterms:modified xsi:type="dcterms:W3CDTF">2010-12-08T15:43:18Z</dcterms:modified>
  <cp:revision>12</cp:revision>
  <dc:subject/>
  <dc:title>THE WEST:  EXPLOITING AN EMPIRE</dc:title>
</cp:coreProperties>
</file>